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8.jpeg" ContentType="image/jpeg"/>
  <Override PartName="/ppt/media/%E6%BB%B4%E6%B0%B4%E5%A3%B0.wav" ContentType="audio/x-wav"/>
  <Override PartName="/ppt/media/WRONG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D54-0F85-4125-A190-7F4DAE24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4BF-C743-425C-B24F-774BE394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E1147-02E4-4658-87E0-E0BFA4E8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5D8A0-6F40-4644-AD12-09C02264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73F4B-03AB-4DFE-A61E-0285D9A4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7D0D8-FE8A-4AD0-B0ED-E6890A8E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9C6C2-4523-4D3A-9219-86CA4123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F88CE-0B4B-4043-B5F0-D2154D9F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29631-1EC6-4C70-A22D-7E52C20C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53603-77DA-424F-AA51-C56D3CC2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3EDD1-308F-4C57-98DE-29548F5E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68AD5-AA58-4AF8-9CD1-ED4DCEEB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052-CF91-4C82-999E-C8AD4D73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90D10-0F93-4D7E-99C8-9716F800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32ABA-3547-4C0A-8990-5FCEC35D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C139F-605E-41F2-858C-B058B549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C799B-784C-4F4E-937F-3C8C20F0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3F4FF-61F9-4D8F-B7A0-1E7ABF81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5947C-2E76-43D1-94CB-9C91DB0F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DFBBC-6CAE-4A1F-815F-1503A221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1BFC1-8FE6-4AD9-95A8-2F0A8200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8AC45-3BDB-469F-9E56-6FF99EC4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4AAB0-8DBD-4E27-973B-CE72989E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2C2D-14AD-4903-BE38-38A29930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74184-3814-4C6B-8B9A-E3CE4004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ADC73-D8C2-4D15-A6F8-671CE048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D0E1C-8315-425C-9479-6DE8DD7B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9BAF7-1AAF-4773-80F7-93886477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28E4A-9AA8-4A99-BAB6-87BC4156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FCEC9-1F39-4F82-84C9-7B63807C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A5D14-CAE5-4FE5-BD44-79F87B95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C1D9B-250C-4844-88E8-B3E35764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1FF0D-9865-40B5-9533-C12192CB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E53A2-E3F8-4362-9604-28B4EAA6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C95E-A857-40A9-9DBD-FEABBB6F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E6747-173C-4A55-939A-F5EE2D6C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8DA19-079B-4B21-AE05-0B89533B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FBEAC-5F90-4A7C-B6AF-6FFC4EDE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CBB0D-C93A-4DC8-AA3A-DAA2B064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9FB99-C39A-4F8C-BA5B-A0ADAE63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976A9-1982-4857-AFD7-0D9D14B8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3FB5C-F66D-445D-806F-E037AC34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CA7B4-3E3D-4A30-B216-CC862A8C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F9A5B-1196-4122-9441-40B7BA84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71073-B813-41CB-82CA-F3992851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BD25-DD57-44F7-B351-258A5BBF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D21E6-841E-48E6-99B9-DC6D812E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426EB-8282-4DAF-9305-3BE26F79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48900-792C-4F76-973E-A207335E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61358-2E8A-44D0-8059-06BB3B61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E3EA8-E90C-4888-B47C-882B2115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6C91-E112-476D-A8AE-6BB0023F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5437-B263-47D9-B74D-0BEFD65A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0EC4-1E5E-45BF-B36D-FDDF9E45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5CC4-45D1-4833-920F-B4C3D04F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7E83-2C6F-43B8-91E3-FC5AC999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77C-F146-4499-957C-6EC9DF16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814F-0CFE-4D57-82FF-BAAACCE0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9049-DD20-4237-9F82-2B350A21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CFB9-7750-4BD9-A8DA-D65BCED4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8C19-6865-4F31-9B55-3FEA6389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B1A9-1FEA-4C85-83EF-BC233AA7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D2EE9-1B4E-4D73-A94E-E4E15072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C3B05-3493-4792-B3B6-AD41491E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0FB3-62E7-4790-9942-899BDC31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C2028-5094-456F-99FA-2D572A44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325A7-4CC1-41B5-B902-B154EB34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15E-5BEB-4BA2-A043-04AEB868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DF4A-CCEE-4976-A5FB-CA03D703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0F42C-FA5E-4B84-B3C6-867583BC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73455-073E-4AC9-A9F3-36283571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CA63-F1B0-4BA2-9287-6AC5F227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0C2E2-4BD9-496B-A54E-A56845BF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233CB-5797-4808-A36B-73B85569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6A11C-7063-4EA3-AD6F-D3168662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6444D-0254-4C31-87D8-3C810877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8972D-DAC1-493A-A6EE-2C634A42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E7A01-6FE4-4993-824C-5662D917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712-CD93-4468-937B-EB613630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2AF82-6002-4360-87E8-BEC6BA03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C9DCA-FFBC-48ED-81A0-55A8698A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41E2C-D9A7-41B0-8D85-88C54F96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310A0-4BB3-433F-9DD3-140E70AF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FF49F-EADD-414C-9190-0D849576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B5856-F541-4592-B519-4B811C00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30508-C116-4163-AF0B-3CA5C2CA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5FE57-D8ED-4517-BADB-805C1932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5741A-3E6C-45E0-993B-EDB89D9F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C428D-C665-4C22-9D42-AD50E5A0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36B-A286-4D17-A9C0-468D8B1C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0860B-0C4B-4D57-B200-28E4AB74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64F6A-0A6F-4AF6-8DC6-FE234DE1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B6B40-A63D-4C12-987B-5D1A46E4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6FB18-199E-443A-A8FB-C6651131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BF63D-2987-4943-8B4D-923AD796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66474-06C0-4B90-AB10-55AE8073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71BD9-EDCF-4E68-A997-EDBF658D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97EA2-4AE7-4A44-9D01-2C05EAF4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7E4FF-FEB4-4FA0-9A10-C0AFC011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B4C6C-23A7-4426-889A-42283745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E42B-ECD6-49F6-BC1C-9BA63D5C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B0B0C-05D9-43CB-8CAB-985D8943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5053B-13E3-4814-BA22-1C911C97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9E283-B461-4A14-A765-30480ABA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50990-EEC5-4145-B3D8-51D44181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D63F9-4EB8-42A2-889A-D8C39135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E0107-B01F-4ABD-9EAB-C9523009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F1A2E-9215-44FF-A67E-FB5675B2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A2FBF-F7E1-4C20-BC69-FF9AA465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2E6BB-9098-41EC-ABE8-F08B2546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BC4AC-EC4C-404F-B1E3-1A333A8A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CA6-9B80-454E-84F5-1DBF7E40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9F33A-B5C1-4B83-8BFE-9B78112F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A4D07-071E-457F-8E73-FFB2F97E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38439-803E-4748-9C74-68590213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A5498-1D9A-4E57-A340-B4C55F84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D83D0-A0FD-42C2-B943-69A3A170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228AE-AC1E-4AA9-A567-8C54EB11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F4399-E322-49E4-9FB8-4D1C79A5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31F59-B65E-4F15-9DF0-41D9C5E7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C3A1B-9001-4E9F-A6DD-FDE042A4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F9916-51AE-4853-AB3C-8577C379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34A-A240-4E49-910E-A6C8E891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4CDA7-0332-47FC-B64A-15567ED2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EF82C-CB7C-44D1-808D-B1B6A98D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24BED-4CF5-4DFE-B702-CADFD0A5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58933-C4F0-4EEF-8D42-C81718F5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8B22B-0FE8-4C0D-B407-C6F9BA42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5F81F-2526-4B68-9FAE-8FD54102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BD2D8-D6FB-4137-A78E-CFFC7950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4D137-1EC8-4531-924A-135817F6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DF484-2848-4BD0-880B-BB6A13F6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6CBB3-6844-4D58-B4B3-84AF256E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46E-8296-49F3-AF77-F46B4DCD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3BE46-255C-4DD0-A9C1-36738A52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E1DAD-3EAE-42DB-8461-89F283B0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D1C40-1AB2-4921-BE2A-30E75B57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2BD5D-D9C7-4973-93EE-0CBFFE73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3F956-5148-435C-A6D7-B13A34AD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BE735-0DA8-4A57-BFBB-112973C3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81915-A425-4242-AB22-D12A4640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4F4A2-36F0-444C-8AB9-F5E6BC0F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A975E-9C68-4AB4-8F8A-266A1238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0A588-19E7-44C5-B9CA-F90C2C75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0812-94DA-44D8-9638-A286FD498468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8FB0-4632-4CEF-907F-62E2A6F787E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0BEA-A693-469F-9F92-31C244C7019E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4F66-9D5E-4F8F-91E4-43FC0D1F078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894A-8883-4FA4-860A-7DE7E8D345DA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89B8-CC49-4B4E-A1C4-19D82FCE53E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0C79-DAA6-40C8-BE06-2D9D7EDBDA6A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4385-2DE2-40BF-A6B6-20F99083730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33DC-7BAE-4D54-8CA0-F531894A16FB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2ADC-8BAF-4AA5-B3D5-04F78A4B687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C288-0796-416A-A104-2D8CCAD00624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C2E9-62B4-4D68-A8CB-179AAB4D2A8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2A60-1038-4ADC-99EA-B245F0A9B0AD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9736-58AC-46F2-A730-EE263101A0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3CF1-EB3B-4B52-BB00-79F38FB07CCC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9533-C658-4AA7-ABB9-5DC558B6B2C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9EA9-C13F-4CDD-981E-A2A26FDD0360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B3FF-9CCD-4DD8-9B31-5663EFA594F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ECDE-200A-4B22-8D13-DA7488E8D572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B32E-EF4B-476E-BBD1-E30D0278FCF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27E1-A873-415F-A880-470A0573B3BA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EA5A-1C66-4125-B907-9D5723DC210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55A3-80AA-4B6C-B494-3821EBD3D160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FC16-7551-4B36-A2B4-7829DE79B7F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&#28404;&#27700;&#22768;.wav"/><Relationship Id="rId3" Type="http://schemas.openxmlformats.org/officeDocument/2006/relationships/audio" Target="../media/WRONG.WAV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牛   和   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p_large_DhnW_7f08000068fc2d0b"/>
          <p:cNvPicPr/>
          <p:nvPr/>
        </p:nvPicPr>
        <p:blipFill>
          <a:blip r:embed="rId1"/>
          <a:stretch/>
        </p:blipFill>
        <p:spPr>
          <a:xfrm>
            <a:off x="-73080" y="0"/>
            <a:ext cx="9680760" cy="69343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飞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走了过来，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一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握住了鹅的长脖子。鹅用脚爪划他，用嘴啄他，可是金奎叔的力气那么大，他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轻轻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鹅提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e2_004"/>
          <p:cNvPicPr/>
          <p:nvPr/>
        </p:nvPicPr>
        <p:blipFill>
          <a:blip r:embed="rId2"/>
          <a:stretch/>
        </p:blipFill>
        <p:spPr>
          <a:xfrm>
            <a:off x="76320" y="3352680"/>
            <a:ext cx="3352680" cy="28195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5"/>
          <p:cNvSpPr/>
          <p:nvPr/>
        </p:nvSpPr>
        <p:spPr>
          <a:xfrm>
            <a:off x="3657600" y="27432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老雄鹅害怕了，好不容易挣脱束缚，张开翅膀，连飞带跳“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  <a:ea typeface="宋体"/>
              </a:rPr>
              <a:t>啪啪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”地落到了池中。这一下，别的鹅也害怕了，纷纷张开翅膀，跳进池里，逃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4952880" y="5562720"/>
            <a:ext cx="41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Arial"/>
                <a:ea typeface="宋体"/>
              </a:rPr>
              <a:t>（狼狈而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3886200" y="3809880"/>
            <a:ext cx="130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p_large_m1N9_7e0700002d682d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1066320" y="1447920"/>
            <a:ext cx="7621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奎叔说：“让它这样看好了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它要是凭这点来欺负人，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咱们可不答应，就得掐住它的脖子，把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扔到池里去。记着，下次可别再怕它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2209680" y="4419720"/>
            <a:ext cx="63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于这句话，你有什么看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_large_14Ea_267900008b9b2d10"/>
          <p:cNvPicPr/>
          <p:nvPr/>
        </p:nvPicPr>
        <p:blipFill>
          <a:blip r:embed="rId1"/>
          <a:srcRect l="0" t="0" r="0" b="7565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144080" y="1142640"/>
            <a:ext cx="71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虽然把我们看得比它小，可我们实在比它强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对待任何事物，都要尊重客观事实，从实际出发；同时，换个角度看问题，得到的结果就大不相同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矩形 8"/>
          <p:cNvSpPr/>
          <p:nvPr/>
        </p:nvSpPr>
        <p:spPr>
          <a:xfrm>
            <a:off x="4800600" y="30099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990033"/>
                </a:solidFill>
                <a:latin typeface="Arial"/>
              </a:rPr>
              <a:t>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990033"/>
                </a:solidFill>
                <a:latin typeface="Arial"/>
              </a:rPr>
              <a:t>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990033"/>
                </a:solidFill>
                <a:latin typeface="Arial"/>
              </a:rPr>
              <a:t> 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200577192343476"/>
          <p:cNvPicPr/>
          <p:nvPr/>
        </p:nvPicPr>
        <p:blipFill>
          <a:blip r:embed="rId1"/>
          <a:stretch/>
        </p:blipFill>
        <p:spPr>
          <a:xfrm>
            <a:off x="2590920" y="763560"/>
            <a:ext cx="5715000" cy="472284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5"/>
          <p:cNvSpPr/>
          <p:nvPr/>
        </p:nvSpPr>
        <p:spPr>
          <a:xfrm>
            <a:off x="533520" y="2438280"/>
            <a:ext cx="165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33"/>
                </a:solidFill>
                <a:latin typeface="Arial"/>
                <a:ea typeface="宋体"/>
              </a:rPr>
              <a:t>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white_002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5"/>
          <p:cNvSpPr/>
          <p:nvPr/>
        </p:nvSpPr>
        <p:spPr>
          <a:xfrm>
            <a:off x="520056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5066640" y="6206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9d8ec"/>
                </a:solidFill>
                <a:latin typeface="Times New Roman"/>
                <a:ea typeface="宋体"/>
              </a:rPr>
              <a:t>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鹅"/>
          <p:cNvPicPr/>
          <p:nvPr/>
        </p:nvPicPr>
        <p:blipFill>
          <a:blip r:embed="rId2"/>
          <a:stretch/>
        </p:blipFill>
        <p:spPr>
          <a:xfrm>
            <a:off x="533520" y="1676520"/>
            <a:ext cx="38242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p_large_AFqy_7e0700002d532d12"/>
          <p:cNvPicPr/>
          <p:nvPr/>
        </p:nvPicPr>
        <p:blipFill>
          <a:blip r:embed="rId1"/>
          <a:stretch/>
        </p:blipFill>
        <p:spPr>
          <a:xfrm>
            <a:off x="0" y="0"/>
            <a:ext cx="9769320" cy="8001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743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牛  和  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牛仔"/>
          <p:cNvPicPr/>
          <p:nvPr/>
        </p:nvPicPr>
        <p:blipFill>
          <a:blip r:embed="rId2"/>
          <a:stretch/>
        </p:blipFill>
        <p:spPr>
          <a:xfrm>
            <a:off x="79200" y="1679400"/>
            <a:ext cx="5330880" cy="48736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鹅"/>
          <p:cNvPicPr/>
          <p:nvPr/>
        </p:nvPicPr>
        <p:blipFill>
          <a:blip r:embed="rId3"/>
          <a:stretch/>
        </p:blipFill>
        <p:spPr>
          <a:xfrm>
            <a:off x="6172200" y="3657600"/>
            <a:ext cx="251460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p_large_m1N9_7e0700002d682d12"/>
          <p:cNvPicPr/>
          <p:nvPr/>
        </p:nvPicPr>
        <p:blipFill>
          <a:blip r:embed="rId1"/>
          <a:stretch/>
        </p:blipFill>
        <p:spPr>
          <a:xfrm>
            <a:off x="0" y="0"/>
            <a:ext cx="8939160" cy="670572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1676160" y="1523520"/>
            <a:ext cx="70117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”原本十分害怕鹅，看见鹅就躲得远远的，后来有一次在金奎叔的帮助下，再也不怕鹅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p_large_DhnW_7f08000068fc2d0b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3"/>
          <p:cNvSpPr/>
          <p:nvPr/>
        </p:nvSpPr>
        <p:spPr>
          <a:xfrm>
            <a:off x="685800" y="838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宋体"/>
              </a:rPr>
              <a:t>对牛：欺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762120" y="3276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宋体"/>
              </a:rPr>
              <a:t>对鹅：害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1295280" y="182880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宋体"/>
              </a:rPr>
              <a:t>拍</a:t>
            </a: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宋体"/>
              </a:rPr>
              <a:t>它的背、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宋体"/>
              </a:rPr>
              <a:t>摸</a:t>
            </a: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宋体"/>
              </a:rPr>
              <a:t>它的肚子、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宋体"/>
              </a:rPr>
              <a:t>触</a:t>
            </a: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宋体"/>
              </a:rPr>
              <a:t>它的屁股、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宋体"/>
              </a:rPr>
              <a:t>刮</a:t>
            </a: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宋体"/>
              </a:rPr>
              <a:t>它的皮、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宋体"/>
              </a:rPr>
              <a:t>扳</a:t>
            </a: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宋体"/>
              </a:rPr>
              <a:t>牛角、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宋体"/>
              </a:rPr>
              <a:t>骑</a:t>
            </a: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宋体"/>
              </a:rPr>
              <a:t>牛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371600" y="4267080"/>
            <a:ext cx="69343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总是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宋体"/>
              </a:rPr>
              <a:t>远远地站在安全的地方</a:t>
            </a: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才敢看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就得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宋体"/>
              </a:rPr>
              <a:t>绕个大圈子</a:t>
            </a: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才敢走过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BB%B4%E6%B0%B4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R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见了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马上就不响了，贴着墙壁悄悄地走过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心里很害怕，怕它们看见了会追过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鹅"/>
          <p:cNvPicPr/>
          <p:nvPr/>
        </p:nvPicPr>
        <p:blipFill>
          <a:blip r:embed="rId1"/>
          <a:stretch/>
        </p:blipFill>
        <p:spPr>
          <a:xfrm>
            <a:off x="453960" y="3809880"/>
            <a:ext cx="2774880" cy="28195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2388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鹅听见了，就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起头来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眼睛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看，竟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岸上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一摇一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、神气地朝我们走过来；还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伸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脖子，“吭吭”地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，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扑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大翅膀，好像眼里根本没有我们似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4267080" y="3657600"/>
            <a:ext cx="48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（目中无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__scale__1_341210032"/>
          <p:cNvPicPr/>
          <p:nvPr/>
        </p:nvPicPr>
        <p:blipFill>
          <a:blip r:embed="rId1"/>
          <a:stretch/>
        </p:blipFill>
        <p:spPr>
          <a:xfrm>
            <a:off x="534960" y="306360"/>
            <a:ext cx="1752480" cy="137016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忙乱中，我的书包掉了，鞋子也弄脱了。我想它一定要把我咬死了，就又哭又叫：“鹅要吃我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鹅要咬死我了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04:21:14Z</dcterms:created>
  <dc:creator/>
  <dc:description/>
  <dc:language>en-US</dc:language>
  <cp:lastModifiedBy>万润仪器贸易公司</cp:lastModifiedBy>
  <dcterms:modified xsi:type="dcterms:W3CDTF">2020-08-24T03:37:10Z</dcterms:modified>
  <cp:revision>12</cp:revision>
  <dc:subject/>
  <dc:title>牛   和   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